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9E4-6B8F-42FF-A8C7-AE491602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9FA5-6A2B-4352-A444-6A989D3630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C0E4-F271-40C3-8208-5F05443D7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993-A58B-4926-996E-3044A29CF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0BF-08EB-4FC8-8511-71516B89E3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DF3-20D5-4034-8B16-F626B7C8FD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00B6-62DB-40DF-9856-96D2AEF879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281-6CDB-4A06-B5FB-B03475B05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BD3-0C06-4707-93E3-0AF1FEAE78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824F-ED5F-46EB-B2D6-BB727F4B9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61D6-425E-45E1-94E9-ED17CA0AE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1419-F1EF-4B7E-BC0A-F33B2F359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55A6-015B-439B-9173-EE05733CF7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2F8-2F49-450A-8604-94BBD0824B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3A77-314A-41D3-8CDC-83CF3D854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37F-0CE1-498A-85C6-A3DF4C880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32A4-312C-4568-A2DE-6B6E3E5284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2E7-97A8-4E85-80D6-20F6A0251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DD9-E3AC-49A0-B095-3AA345AE8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822C-D8FC-4A46-BDAC-CB0BFDA2D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C9BB-F19A-47D3-83E6-FFE59C9196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D24-C01E-4501-9E29-0B812E99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82D-A158-4556-A0BC-CFBC99E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483736-7EAA-48A4-97BB-D5ED903D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DE3C1-5FFD-429E-B2D8-F938CCB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EDEC0-03B7-4400-9ADE-9BA27A7A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C0122-27AC-4BC5-9932-F208FD0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E47E3-1603-4879-A6DF-A157B0C5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99B065-461C-4B89-9B68-72DE523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ED6AD-BB80-410B-8174-3F779BA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8C0F0-8C29-4B48-80B5-1194A477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21C4F-E362-42F3-9CE9-6EBCE75C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44BB2-B0C9-429A-9FAA-8E975245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6057-F935-494E-A9FB-F23B0978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40E93-E3A5-41A9-B986-B1EF56A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B7518-B78C-4E19-B275-CB5BD3C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31CA4E-DD82-40EA-A80C-CD4833A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CCFA1-E713-4B8A-B260-DB21AFE5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E2865-1000-454A-A68D-C8C57D31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F90A3A-8D34-4C54-A7EE-305709DA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78B2A9-C3B6-4B3A-9F65-0A2E577E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242F4C-9D50-454A-B997-503D0426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F3D565-E005-4FF3-8040-5AFE4C6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17457C-6426-4F22-BDB5-20E0FA8A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ECF-DBB5-4860-9E24-F535903D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EEEA7-C170-482A-91D1-746C34CE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41A654-7E34-4BAD-A7A4-E7609C6F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3883A2-45AB-4255-AD83-F8289FEE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8B1EBC-F757-4632-80D3-539FD9F2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C4F86D-4269-485A-8D8A-36C5C8A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6AC305-CC93-443D-95CA-54BA073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B2119D-1466-4F87-9563-5A1B07E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BA768E-D937-45B9-A72C-A00F361F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0E0BD3-B096-4712-AE5E-22883BCF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346AD2-23BE-420C-87DF-19CC4A83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1BE28-667F-4644-A6A9-31D5D05E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B07BA-620C-4B6E-A938-DDDE3C74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D242AB-9E43-44CA-9415-8BDA04CF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1BAB2D-A65C-4B7D-89CC-7D754BBF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ADEB67-6AFC-48BA-B45C-A44B7600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0ABAA-49F8-4C55-BB9E-88C75DB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A7BE1F-4776-4DF2-8E09-3B948B1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3B905B-A824-4F28-923E-1923A74F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B3D661-588F-4E0B-8CCC-3CA97BD5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7F59D7-1B69-4C62-851C-7ADD12F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38223B-CB06-45BA-B681-81B23D4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CF8CE-0959-433F-8837-D44D0780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90C53C-286D-4939-89D7-125364C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668CF-8934-4DC6-BD50-F7CA6EFE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2A567-EDA5-4838-B617-D193F28F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6CF717-31A3-402D-9F14-912AE050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5B87DA-9D3F-41F8-9012-4F47AC0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D91EAA-3121-4E8C-A263-2E948062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5504C1-E4B4-4691-9DEA-B0F40815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988C1-B775-442B-BAB2-298E2402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84177B-8662-4ACA-9AEA-CE7BF0A1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8F6FED-A941-4F89-929A-B59EFC49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FC12-9039-4609-AF4B-C5380EC1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8A3DA8-D15E-4BE2-80F8-B2482691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8BF1BF-C5A0-4136-9955-27CCDF9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96D91E-1BB2-41C7-8625-1326E89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B9C790-84CC-41BB-AC4A-A7436057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64D01A-5C3F-468D-BC96-AAC35EF1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556BE5-640C-4418-B8C3-A9DCD4FA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B5713-0E84-4E22-B80C-38DD0255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04B944-1957-42F7-A5D6-F8808CEF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2CA07C-9048-4107-8EBA-EC2A2FCB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E8A660-D0A1-4B83-822D-A1B713C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CB19-EB2E-4157-9EFF-044D6A52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55BC73-854A-48E0-A5EB-C266CF35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32FA81-C9A6-498E-9BF8-E8057494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24757A-5B76-47E7-9EE5-5FA5CA1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819F38-EA9C-4EF7-BC8D-A04E467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428373-A66B-49EA-85E5-94C19B0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962CCE-4501-4445-9EB9-9AD03A1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71283D4-A12E-4CC9-A067-AC76E7F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7E6D41-06CC-482C-B5B5-3972C986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4B1D92-1563-448E-BE43-B3603588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F970D4-3663-46EF-9D32-11F46B6E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5FF09-DAEB-40AB-9886-BE9AB46D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4E9778-81C0-4FB8-ABF3-EE81076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202027-86AE-441C-919C-1F80DB6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C49643-E504-4B7E-9DC7-1BA255E5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F7555A-14B6-4B37-92CA-B6F313AE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2DF6E4-BD03-4FBC-9806-9ABA388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40F66F-19CA-4E9C-AB70-33CEB33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897841-80F5-414D-986D-40B62BE9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DAE76A-48E6-4F4E-B1AA-08FB54C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AE9824-0BFD-4B76-8BD3-7939A183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9167787-2F91-47DA-8F7C-4CB3A3DF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C4F25-3B7A-4221-9CF0-51183D30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A286F2-ACD5-49B0-B492-4E3ED118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06388B-1A1F-4F70-AA5F-A8D9CC06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EC5A1C-88EC-43B6-96BF-CA7784A1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E196F0-5B58-4828-9094-1FFDE4D3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38E467-DC24-49F1-9390-652C2527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06A247-A01E-4BC0-944B-A8D8469D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26A7DF-7F46-4BE6-9069-F760F9E1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B7AE60-8932-462D-AF63-646F2BCC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6004F9-D604-4B6E-9881-41D6DAE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0CA563-7ABA-4C1D-9CC7-F0E7D545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EA9A7-AF81-4C2C-996B-ADA23A41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AC22DF-029D-4C54-B31B-09438792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3E870C-AA8F-4FDA-B060-79428133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A8F582-E18F-41D2-8576-21764821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BD99CE-FE4F-40A9-98F2-1E8CF6D0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1CC86A-2763-429D-9D63-9BFA2F89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FBA91A-9C8F-4B98-BE6C-2F8E9B8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79C317-64A5-491A-AE38-7DC1A508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AA9C9B-0B65-4B92-8C7A-4220072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3CFE7E-4E74-4C39-AB73-93F48858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3281F2-9D46-4DDD-9257-677F1C4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C8DD-1BB8-4D13-986D-280531C2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91EC0-2F45-4476-AF0A-7810908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20BB22-C6E9-4469-9FF1-183FFE32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3FA524-2A06-4624-BC80-602A9D6D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914B0A5-6714-4E41-9F9D-39A6C21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35031D-4890-4096-BB6C-6DE6552B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9E8BCA-51F5-4F83-8663-FD1C5BB5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C9794-8D35-40EC-B6AB-C61A9B91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7E228-28B7-4541-9EE2-F8ABF6B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1967C-A473-4D92-AFCD-5793956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12B4B-39FA-4CD5-8286-F0FAB65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68784-DACC-46E9-A6DC-ED991C4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7648D-4764-475A-8EE6-F0EB223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07D323-52B8-4C06-BDCA-681DD1E7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76AEF-2263-4349-8CA3-60D056D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57568-61B4-4016-B8CE-AAE1908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8DCCA0-4082-43BA-A02D-546D7DBA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D4338D-B712-4C4F-A71E-DA36AB69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149CA-124B-4865-8CED-96004922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D2927F-E137-4400-9F7A-56FE0269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F6D4-95A2-478B-97B8-1C71EA8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FE260-E512-4DC9-B91B-B17DF124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5600-3F4E-46CD-8A10-50E9D774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40D49-CD80-4877-B2A1-99FFD17C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D3630-63D1-495E-AD7F-6FF2B072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2B4BE-3D54-4BA9-A830-6944173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A87F4-4B72-4DBB-9099-CA248EC7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3FBD6-833D-4DC3-8518-3BE034F1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B91-0645-4125-99A8-0286EBC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D6784-8E24-43F9-BBCD-F4E0BF9B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E4D1C-C591-4B8E-AC7B-583E10C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8AF65-6341-4232-8066-DD93B50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A0B5B-D65B-4241-B2ED-EA072A6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60077-B2FD-404C-8BAC-793C55E2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3C4C7-11EB-4789-B43E-4FFCBEE0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B784E-CEFF-42E6-A563-B26EDBC0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B68BF-4F13-4466-BAD8-36AB8E3C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19655-4B05-489A-9B08-6498FE48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41D21-0565-4767-9C87-E23A0F28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6B2-C14B-4FC1-B559-E3EBD3F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58456-1EF1-4D7D-8D09-DD178684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F8CFC-BF8C-4E43-BA9F-9F42071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8E79E-19B2-4E35-AFF4-87ED2354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9C4FB-4D0B-4CAC-A676-64E066E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B474E-F3BF-47AF-B03C-1BBC2BB5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FCAF7-0221-422A-827E-D0DF16F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3ED63-1F82-4A46-9AE2-A1C035B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3BF43-496D-4714-849F-D111AF79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C76F6-6F7C-4272-B471-DFF3D9DA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ACB989-6F07-425C-B0B4-5916D593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91B-2E23-46DC-A6E3-F37C10B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17E2C-022E-4C80-A9AE-46B53F7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7D91B-031D-4E78-89F3-07A59960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C9413-E5F5-4B89-94FB-0A7AE97F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A6824-51C5-4927-A49B-0E0E76BB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8BD11-F1AB-4EE2-8214-FCE3146E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3ADCA-22F3-4E21-9B08-8CCE2AA9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78F7B-F4CC-4C2D-8B0D-C065A6B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54A30-2173-4155-8379-F81AFDB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518A2-17D9-400C-9CF0-8CAB63C4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6873F3-2B09-4E02-80AD-83F03722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801-CD98-4241-B119-1E12FFB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CB389-FD53-4015-9B1F-89A8362A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53D2A-FE72-4429-8A7D-0522113A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67197-0363-4D5C-A94A-9966E15E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C4C2F-456B-4591-8B6F-336BC6F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525E0-E2B7-493B-B20B-5A1BF645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C0B82-74FC-4EA5-B457-225590EA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E7A78-B0B4-4B84-AF88-CAFF174E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54AE0-0E9C-495B-9D52-D459104C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D1445-3792-4B51-A2CF-7FCA3D46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DF18C-0FA2-4DC0-ACD0-536252F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EDA-856C-4245-977E-2A93311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FC351-86A0-4483-9EE4-02CAFCD4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AF2C6-E17E-4FDD-821F-5066545C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BC1B7-5B65-4A8A-BC8C-C716442A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B6B7B-7180-4E45-B701-4CEFBB65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0C8C3-7377-42B3-BA6C-5B700DE8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6B99A-38E5-4B5F-AB86-A9517986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AAA48-4345-4668-99F5-FA4874B4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B35FD-919C-467C-AAFB-239DAD69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5AB35-DA4B-413F-9125-2587F6FA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56B03-A3E8-44CA-BF47-177B255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E42-DF4F-451A-AC6B-EF9608DE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21BD3-599F-4147-A653-694FA40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C329D-70BA-4062-8240-B530717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ADD128-40FE-4F7B-93AC-4D4799F1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AA546-7941-4075-A943-05CB4D90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10B2A1-20BC-4E74-A3FE-059E509E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393E5-19D4-4B00-AB3E-6EE3595C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3252AA-2ADC-44FD-B940-FAFD8DB2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E8D0C-FD92-489B-8B95-CBA6911C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AAA40-C3D2-40B9-91D7-97CD0A5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39D3F-078B-4216-94C8-D334AE1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929-CC72-42C1-A75B-77B6984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F07FB-673B-4E7F-A950-4E871809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946B9-A46B-4803-8370-DA41AD2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3B248-7A6E-40CE-BD27-25C5860F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0AEF5-0D6E-4F9F-A41C-035387A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BB4C3-75EB-4557-AA93-70CAF5F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15DA45-831A-48ED-B24B-5255BAB6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A56073-D358-48FC-B39B-E4A45933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A1AA28-8874-4C38-A99F-1B0CA711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A02FF1-2E44-4435-ABAA-AE81A435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3B14B-2450-4C08-9D76-7B055183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C08-0588-4B28-BBDA-3A5993B26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16AD-76F2-40AE-8EB8-9F8235355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1F74-DA79-4297-9916-8636C5BE6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3938-3FA4-4612-8AE6-065B0C43D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CFCA-EBF5-4D53-A6A3-D2BD39467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dt" idx="4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ldNum" idx="4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888-C35B-4351-AFD6-BB76971ED2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dt" idx="4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ldNum" idx="4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6C2-3D23-4C20-84D7-DFC1BFBAD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CC6-8E55-47BC-80BD-1C3140FFE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dt" idx="4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ldNum" idx="5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A25F-5D74-44B7-878C-516B0FE092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4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AB12-62F6-41A9-89EC-B20F87E9B6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F7B7-28C8-44A1-8822-327F5451D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3D29-180D-4EDF-A9DB-8E1A937A3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4C93-5AD8-454C-853D-80A66E46D5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2983-C06C-407D-880B-11D2A30107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72F-023F-4371-9658-C5DC696D43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3D1-7593-4151-B968-EF4E5621BF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320-E27B-4C67-A047-3FE0C6428C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FF5A-E871-4A30-A45F-4548FE236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257800" y="83808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Arial"/>
              </a:rPr>
              <a:t>Zoom-In Inquiry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762120" y="42670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ine primary source clues carefully.  Determine what you see and what questions you might ask to “get the big picture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Picture 4" descr="microscope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3698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9" name=""/>
          <p:cNvGraphicFramePr/>
          <p:nvPr/>
        </p:nvGraphicFramePr>
        <p:xfrm>
          <a:off x="380880" y="144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Line 20"/>
          <p:cNvSpPr/>
          <p:nvPr/>
        </p:nvSpPr>
        <p:spPr>
          <a:xfrm>
            <a:off x="914400" y="243828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Line 21"/>
          <p:cNvSpPr/>
          <p:nvPr/>
        </p:nvSpPr>
        <p:spPr>
          <a:xfrm flipV="1">
            <a:off x="4419720" y="2286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22"/>
          <p:cNvSpPr/>
          <p:nvPr/>
        </p:nvSpPr>
        <p:spPr>
          <a:xfrm>
            <a:off x="7240320" y="220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23"/>
          <p:cNvSpPr/>
          <p:nvPr/>
        </p:nvSpPr>
        <p:spPr>
          <a:xfrm>
            <a:off x="53352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know about the relationsh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and n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380880" y="144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i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necti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Line 20"/>
          <p:cNvSpPr/>
          <p:nvPr/>
        </p:nvSpPr>
        <p:spPr>
          <a:xfrm>
            <a:off x="914400" y="2438280"/>
            <a:ext cx="15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Line 21"/>
          <p:cNvSpPr/>
          <p:nvPr/>
        </p:nvSpPr>
        <p:spPr>
          <a:xfrm flipV="1">
            <a:off x="4419720" y="22860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23"/>
          <p:cNvSpPr/>
          <p:nvPr/>
        </p:nvSpPr>
        <p:spPr>
          <a:xfrm>
            <a:off x="533520" y="228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know about the relationsh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and n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Oval 24"/>
          <p:cNvSpPr/>
          <p:nvPr/>
        </p:nvSpPr>
        <p:spPr>
          <a:xfrm>
            <a:off x="6934320" y="2286000"/>
            <a:ext cx="457200" cy="380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Oval 25"/>
          <p:cNvSpPr/>
          <p:nvPr/>
        </p:nvSpPr>
        <p:spPr>
          <a:xfrm>
            <a:off x="7162920" y="2286000"/>
            <a:ext cx="457200" cy="380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304920" y="304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fd293"/>
                </a:solidFill>
                <a:latin typeface="Arial"/>
              </a:rPr>
              <a:t>Examine these images to determine how they help us understand the relationship between humans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1" name="Picture 3" descr="Image, Source: b&amp;w film copy neg. of left half stereo"/>
          <p:cNvPicPr/>
          <p:nvPr/>
        </p:nvPicPr>
        <p:blipFill>
          <a:blip r:embed="rId1"/>
          <a:stretch/>
        </p:blipFill>
        <p:spPr>
          <a:xfrm>
            <a:off x="762120" y="3567240"/>
            <a:ext cx="1868400" cy="2286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"/>
          <p:cNvSpPr/>
          <p:nvPr/>
        </p:nvSpPr>
        <p:spPr>
          <a:xfrm>
            <a:off x="762120" y="585252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veston disaster, I'm glad Ise 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Prints and Photographs Division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3429000" y="6035040"/>
            <a:ext cx="240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ors of the earthquake, Messina, Sicily, 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Picture 6" descr="Image, Source: b&amp;w film copy neg."/>
          <p:cNvPicPr/>
          <p:nvPr/>
        </p:nvPicPr>
        <p:blipFill>
          <a:blip r:embed="rId2"/>
          <a:srcRect l="0" t="0" r="48751" b="0"/>
          <a:stretch/>
        </p:blipFill>
        <p:spPr>
          <a:xfrm>
            <a:off x="6172200" y="3124080"/>
            <a:ext cx="2658960" cy="266724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7"/>
          <p:cNvSpPr/>
          <p:nvPr/>
        </p:nvSpPr>
        <p:spPr>
          <a:xfrm>
            <a:off x="6324480" y="228528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 the descending fury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t. Pelee, Marti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Picture 8" descr="Image, Source: intermediary roll film"/>
          <p:cNvPicPr/>
          <p:nvPr/>
        </p:nvPicPr>
        <p:blipFill>
          <a:blip r:embed="rId3"/>
          <a:stretch/>
        </p:blipFill>
        <p:spPr>
          <a:xfrm>
            <a:off x="4114800" y="1828800"/>
            <a:ext cx="1538280" cy="19810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9"/>
          <p:cNvSpPr/>
          <p:nvPr/>
        </p:nvSpPr>
        <p:spPr>
          <a:xfrm>
            <a:off x="1523880" y="2056680"/>
            <a:ext cx="254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 pollution. City dump. Dubuque,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brary of Congres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nts and Photographs Divi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10" descr="Image, Source: b&amp;w film copy neg."/>
          <p:cNvPicPr/>
          <p:nvPr/>
        </p:nvPicPr>
        <p:blipFill>
          <a:blip r:embed="rId4"/>
          <a:stretch/>
        </p:blipFill>
        <p:spPr>
          <a:xfrm>
            <a:off x="3276720" y="4038480"/>
            <a:ext cx="2514600" cy="20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Zoom-In Inquiry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offers irresistible invitation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 thinking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2"/>
          <a:srcRect l="2939" t="10001" r="4412" b="4285"/>
          <a:stretch/>
        </p:blipFill>
        <p:spPr>
          <a:xfrm>
            <a:off x="2895480" y="3211560"/>
            <a:ext cx="34290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uriou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181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uriou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3353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clos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play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8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57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…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ellectually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arefu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51" name="Picture 4" descr="http://www.loc.gov/exhibits/reflections/images/ref0024s.jpg"/>
          <p:cNvPicPr/>
          <p:nvPr/>
        </p:nvPicPr>
        <p:blipFill>
          <a:blip r:embed="rId2"/>
          <a:srcRect l="0" t="3280" r="0" b="4913"/>
          <a:stretch/>
        </p:blipFill>
        <p:spPr>
          <a:xfrm>
            <a:off x="304920" y="3200400"/>
            <a:ext cx="2305080" cy="3200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ellectually Careful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ert for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for accur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oborate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ify opinions with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5" name="Picture 5" descr=""/>
          <p:cNvPicPr/>
          <p:nvPr/>
        </p:nvPicPr>
        <p:blipFill>
          <a:blip r:embed="rId2"/>
          <a:srcRect l="33226" t="7218" r="14378" b="7610"/>
          <a:stretch/>
        </p:blipFill>
        <p:spPr>
          <a:xfrm>
            <a:off x="5791320" y="2286000"/>
            <a:ext cx="320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You’re invited to be…</a:t>
            </a:r>
            <a:br>
              <a:rPr sz="4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58" name="Picture 4" descr=""/>
          <p:cNvPicPr/>
          <p:nvPr/>
        </p:nvPicPr>
        <p:blipFill>
          <a:blip r:embed="rId2"/>
          <a:srcRect l="1319" t="20005" r="2944" b="3751"/>
          <a:stretch/>
        </p:blipFill>
        <p:spPr>
          <a:xfrm>
            <a:off x="609480" y="3276720"/>
            <a:ext cx="2873520" cy="2971800"/>
          </a:xfrm>
          <a:prstGeom prst="rect">
            <a:avLst/>
          </a:prstGeom>
          <a:ln w="57240">
            <a:solidFill>
              <a:srgbClr val="0005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18960" y="12949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61" name="Picture 5" descr=""/>
          <p:cNvPicPr/>
          <p:nvPr/>
        </p:nvPicPr>
        <p:blipFill>
          <a:blip r:embed="rId2"/>
          <a:srcRect l="4198" t="7844" r="7122" b="9407"/>
          <a:stretch/>
        </p:blipFill>
        <p:spPr>
          <a:xfrm>
            <a:off x="6172200" y="457200"/>
            <a:ext cx="2422440" cy="2819520"/>
          </a:xfrm>
          <a:prstGeom prst="rect">
            <a:avLst/>
          </a:prstGeom>
          <a:ln w="0">
            <a:noFill/>
          </a:ln>
        </p:spPr>
      </p:pic>
      <p:sp>
        <p:nvSpPr>
          <p:cNvPr id="962" name="TextBox 7"/>
          <p:cNvSpPr/>
          <p:nvPr/>
        </p:nvSpPr>
        <p:spPr>
          <a:xfrm>
            <a:off x="1523880" y="266688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  product to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ther other opin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relationship between parts and a wh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3281040" y="289548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do you se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3" descr="tornado"/>
          <p:cNvPicPr/>
          <p:nvPr/>
        </p:nvPicPr>
        <p:blipFill>
          <a:blip r:embed="rId1"/>
          <a:srcRect l="0" t="70294" r="85329" b="0"/>
          <a:stretch/>
        </p:blipFill>
        <p:spPr>
          <a:xfrm>
            <a:off x="457200" y="4572000"/>
            <a:ext cx="12193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eflectiv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6002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e a  product to crite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a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k understa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ther other opin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relationship between parts and a wh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Picture 2" descr="tornado"/>
          <p:cNvPicPr/>
          <p:nvPr/>
        </p:nvPicPr>
        <p:blipFill>
          <a:blip r:embed="rId1"/>
          <a:srcRect l="0" t="69183" r="66979" b="0"/>
          <a:stretch/>
        </p:blipFill>
        <p:spPr>
          <a:xfrm>
            <a:off x="380880" y="4419720"/>
            <a:ext cx="2743200" cy="210492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3"/>
          <p:cNvSpPr/>
          <p:nvPr/>
        </p:nvSpPr>
        <p:spPr>
          <a:xfrm>
            <a:off x="304920" y="4572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who you see in this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do you think this image was tak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tornado"/>
          <p:cNvPicPr/>
          <p:nvPr/>
        </p:nvPicPr>
        <p:blipFill>
          <a:blip r:embed="rId1"/>
          <a:srcRect l="0" t="67937" r="0" b="0"/>
          <a:stretch/>
        </p:blipFill>
        <p:spPr>
          <a:xfrm>
            <a:off x="228600" y="4343400"/>
            <a:ext cx="8458200" cy="223056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3"/>
          <p:cNvSpPr/>
          <p:nvPr/>
        </p:nvSpPr>
        <p:spPr>
          <a:xfrm>
            <a:off x="533520" y="45720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new people 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ngs do you se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do you think th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age was tak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tornado"/>
          <p:cNvPicPr/>
          <p:nvPr/>
        </p:nvPicPr>
        <p:blipFill>
          <a:blip r:embed="rId1"/>
          <a:srcRect l="-2747" t="53814" r="0" b="0"/>
          <a:stretch/>
        </p:blipFill>
        <p:spPr>
          <a:xfrm>
            <a:off x="304920" y="3429000"/>
            <a:ext cx="8534160" cy="3154320"/>
          </a:xfrm>
          <a:prstGeom prst="rect">
            <a:avLst/>
          </a:prstGeom>
          <a:ln w="0">
            <a:noFill/>
          </a:ln>
        </p:spPr>
      </p:pic>
      <p:sp>
        <p:nvSpPr>
          <p:cNvPr id="908" name="Rectangle 3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e a hypothesis about what is happening in this pictu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Picture 2" descr="tornado"/>
          <p:cNvPicPr/>
          <p:nvPr/>
        </p:nvPicPr>
        <p:blipFill>
          <a:blip r:embed="rId1"/>
          <a:srcRect l="0" t="23823" r="0" b="0"/>
          <a:stretch/>
        </p:blipFill>
        <p:spPr>
          <a:xfrm>
            <a:off x="762120" y="380880"/>
            <a:ext cx="7391160" cy="4630680"/>
          </a:xfrm>
          <a:prstGeom prst="rect">
            <a:avLst/>
          </a:prstGeom>
          <a:ln w="0">
            <a:noFill/>
          </a:ln>
        </p:spPr>
      </p:pic>
      <p:sp>
        <p:nvSpPr>
          <p:cNvPr id="910" name="Rectangle 3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new evidence do you have to sup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shift your hypothesi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you think this image was cre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tornado"/>
          <p:cNvPicPr/>
          <p:nvPr/>
        </p:nvPicPr>
        <p:blipFill>
          <a:blip r:embed="rId1"/>
          <a:srcRect l="0" t="12535" r="0" b="0"/>
          <a:stretch/>
        </p:blipFill>
        <p:spPr>
          <a:xfrm>
            <a:off x="838080" y="228600"/>
            <a:ext cx="7391520" cy="531648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3"/>
          <p:cNvSpPr/>
          <p:nvPr/>
        </p:nvSpPr>
        <p:spPr>
          <a:xfrm>
            <a:off x="419040" y="5715000"/>
            <a:ext cx="8420040" cy="916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ectators standing on a dirt road, looking at a house damaged by a tornado. Illinois  1928. Photographs from the Chicago Daily News, 1902-1933 American Memory, Library of Cong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Thinking about your Think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id your perception of the image change as you saw more of the im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id your hypothesis chan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questions did the image leave you wi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5" name="Picture 4" descr="tornado"/>
          <p:cNvPicPr/>
          <p:nvPr/>
        </p:nvPicPr>
        <p:blipFill>
          <a:blip r:embed="rId1"/>
          <a:stretch/>
        </p:blipFill>
        <p:spPr>
          <a:xfrm>
            <a:off x="380880" y="152388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Understanding the “big picture”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917" name="Picture 3" descr="tornado"/>
          <p:cNvPicPr/>
          <p:nvPr/>
        </p:nvPicPr>
        <p:blipFill>
          <a:blip r:embed="rId1"/>
          <a:srcRect l="0" t="9650" r="0" b="0"/>
          <a:stretch/>
        </p:blipFill>
        <p:spPr>
          <a:xfrm>
            <a:off x="2209680" y="1066680"/>
            <a:ext cx="4800600" cy="356724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4"/>
          <p:cNvSpPr/>
          <p:nvPr/>
        </p:nvSpPr>
        <p:spPr>
          <a:xfrm>
            <a:off x="380880" y="457200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How might we describe the relationship between humans and natu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02:42Z</dcterms:created>
  <dc:creator>rhonda</dc:creator>
  <dc:description/>
  <dc:language>en-US</dc:language>
  <cp:lastModifiedBy>Rhonda</cp:lastModifiedBy>
  <dcterms:modified xsi:type="dcterms:W3CDTF">2013-01-23T09:54:11Z</dcterms:modified>
  <cp:revision>342</cp:revision>
  <dc:subject/>
  <dc:title>Slide 1</dc:title>
</cp:coreProperties>
</file>